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wmf" ContentType="image/x-wmf"/>
  <Override PartName="/ppt/media/image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ding.wav" ContentType="audio/x-wav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574-93A9-49D5-A57C-D031014F6C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оле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582-EE05-4BA3-8031-3D8F97DC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C46-4C08-4B1B-9A3E-FA39118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F6729-2CE5-4B5B-8D31-EAC66B60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CFED7-4110-4127-B716-73A97EA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A08F0-B75E-4846-8E16-BCD62FB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54F57-E513-415F-A376-FC2BD66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EE5F-35DB-4124-8CC6-177B521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070DA-550F-438B-865F-CE0D59F4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CAD5A-F1A6-4BA9-9BD9-8FF7DF7C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8767F-CB3C-4305-8886-B7EF0F15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001B-B879-4C7E-9ADA-5B0099C7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D7001-F55A-4D4F-A090-210B3D82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33C-5572-4491-995A-413FBC55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62F0-4D92-4C49-B37F-1EAF386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14980-F150-4A8B-BD6D-2FD499CF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AD9A0-CA93-4FCC-9EE5-B40A8835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724A2-C884-4C84-9EC4-9EB8CEF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62F66-6FD7-4934-8131-2A9A6B54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03186-BD37-445E-A1EB-EDE3BEB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B8D35-0813-4FE1-A442-2608BCCA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1971C-82D0-4E1F-8876-E11EDB3E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033EE-7A38-449B-84AE-9FC037E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3B0B-EFD5-44C2-A42A-470DCD22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660-97CF-4FE7-8C19-3EF19FA3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CE895-FE21-4B78-BCC1-2E8BE942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C0074-5B42-4653-A9AF-89820F2C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24BFE-55B5-40EC-AB4A-6F3B544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E58E9-D6E4-4010-A943-552970B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7CDE5-581D-4A37-9628-978EACBF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92F8-64CF-4515-B578-8D228C3B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4918A-557C-4685-AB55-A451AAD0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BC448-5799-4DEB-AD3D-2D4CF0B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4E809-1D4B-41D9-8C79-6296A7D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DDA4-9832-4230-946D-CA5DDBF9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97D0-97D2-4CC9-BF52-A5408F65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A6A89-A80A-4ED1-9046-9FC2154C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7FAFA-7EF6-4B89-B193-09D2D237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DEE5B-61EF-4329-B9C9-6871DE51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22DDC-FC38-4CC1-8897-9F5BB1AC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6C5EE-6E60-4F7A-8BFE-F0DF325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7E366-E7CD-4644-9D39-3B7338F4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A2B3C-80D3-4142-9B17-B2DB46E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143EC-EBD6-48CD-AB25-1C635B2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633B7-CFD1-4DDB-9D30-B9E35061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E0165-D280-4520-9A39-044123D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C269-E163-4C46-AF3D-D148E5B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1AD16-816E-41F4-B190-4E7DA5F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12724-F409-4320-8337-F1D68BD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49B4C-74B0-4966-831F-CDBE071B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755CC-379D-4CAE-9805-5F81FC73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5FA80-9D12-4A68-B840-9F136B41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89E63-45D6-4F14-98D1-00A1DC59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1A427-3142-449D-A993-E33EDC84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19A51-F139-4F39-92EB-366ADC2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D60B7-77CC-4A66-9658-7A37CEE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67291-F6ED-493A-9070-C0CCD1FA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FCC1-C951-4F0C-AA84-F72616D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60152-5936-488E-8BF3-8B47A9A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F776E-8525-4791-8D97-EACE406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7797D-A896-4D83-9E59-6E29BDA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5128B-B6BF-4522-917B-4155BF8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27553-1CEC-4B75-82BF-F9ED838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9BAA9-A96A-405C-B543-CF53744C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7A0E6-97CB-4B51-85B8-B1E8AC60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22E3C-E66F-4477-9A1C-99C3E3AF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499B1-2582-4673-9BAB-F88C8DFC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1FAF4-27EB-4B6E-9DC0-B57FB3F2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883-F030-43DD-95D1-F950577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579B5-AC5E-41AC-BA90-86ECE86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E6433-7872-45E4-94C3-390E2DE6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96D35-15D0-4F49-900C-BFB0563E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22ADD-0BBB-4972-95ED-763BEEC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BDDDD-B38A-47DC-A5F9-BF9E4CD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44DA3-3A6D-4284-A62D-9117DF18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98946-4BE5-4B10-8991-003A77A6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3376F-ED1E-4904-8B31-AA8DBB92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F15E0-0064-4A2D-8BE0-3B9444CE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F18CB-B371-4F21-AE35-130A2094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57EC-1F52-4707-AFD6-58A377D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A692D-48BD-4C10-BF04-C7841BB8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C969F-C190-45D9-ACB1-91031A7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B7132-D824-4DD0-9C5D-7897E4C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79B8F-D9B8-40DE-AB3B-E2C5339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55565-381A-48EF-859A-AAE4E2C8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09AC6-5607-405F-8ABF-D97BF7D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35FB4-1B5C-4185-8C1F-B3865E2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11563-0AEC-4925-818F-EC016A2A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D680A-C641-4FCE-B5EB-E40473F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74343-63C0-4B7E-A356-3169D2B2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0F01-3C35-413C-85CB-5844A2F5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98D90-2AE4-4109-965E-C7BD5819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3F2-F526-43C2-B503-B765C6D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D7C-05BD-4FDC-BD8E-0769326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8336-A723-42AA-8C59-49B6C9A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014-2006-403A-AAA2-87BFEC5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F79F-73E9-49CA-A7CE-4C17FE1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E2C7-757A-4E6C-AD5C-1E2EDB37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27D5-CCCF-4C5F-BA5D-42419BB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E3E5-BD62-4C89-AB47-1BE15D8E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AE2C-E1B1-46CD-8B10-5AF38E7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1A57-C05C-4D1A-BB03-F5446F47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F87C-D342-4D25-8C82-AB8036A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A614-4B35-4C91-8ED4-7573E88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B95-5662-41F2-96FC-3B6DCBF4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D467-4011-4D18-9AE7-C968118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5FFB-2A3A-4114-BB4C-84BDBEB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BE8B-FB4B-4974-85B8-9D19C0B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1EF6-FA7B-4715-A9BF-6875304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9C63-7FB4-4A02-8AC3-B0EA680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9189-8F1C-4C28-B861-83A9C327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98EE-C3A2-4B0F-95C3-EC70828A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922C-9099-4EC7-8D6C-2B663713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634F-2FD7-45C3-BB6F-BEB2216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FF9E-0961-4805-AF87-1B12E0E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BA8-A465-4BF3-9342-7F62F1F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B19A-86F0-4690-B4AD-2DE13B3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4B4E-43B7-48A5-8DD4-FD661815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4907-7AE1-4DBA-B576-03C0953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8127-444C-4C2D-A66B-3150663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B770-8CE3-4403-853B-1CC2D9B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59D3-043B-42B6-BBDE-DA2FE0F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5534-B358-4FE6-BBD3-E250D066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E460-DCDF-42FB-83C5-E4B05304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23AC-5495-4341-ABD3-F2BB429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42C5-6E29-4FBB-B364-E621DEAC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647-BF5C-4EA4-A79B-E7C0295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3856-F491-43E0-A2D3-65E4540A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7CE7-AC6E-465C-A828-9E6DEDA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3690-4584-4F32-AC1E-5A24B3D3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01C05-CADB-4D3B-86EF-8BCA69B2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1877-F85E-4AC3-8338-7DCCDF47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DA0A-C487-4C8E-8A68-B80CCD76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D788-2B2F-4D0C-9026-0E4D8E48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A800C-F80D-4ED6-BF3A-E6F7200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00A3-E6ED-442F-BB9E-3AAC1AB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38F84-4EA0-45C8-BFBF-C88E984F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3E2-6013-405C-BC27-1AAF4E5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6E15-BEFE-4368-B558-FDC1CB4F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2349-6D29-4C6F-A688-8A2C0454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8251-86D1-4545-8BC8-54CF52AA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77FAD-69D7-4478-BFF3-2DC22AC5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1AC3-6F45-4355-A94F-B62940E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31DE3-8A0D-4989-B6B3-C8FA26A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EF86C-4B15-4030-9BB5-3EEDFD1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F2A7-21DA-49F8-9FD2-690F754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6BB6D-1B9C-430A-96E0-35A832D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457B-8B05-4F96-B911-18CF5CE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17C-9F8E-40E1-8F57-48407A8D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CB3E0-B332-45F9-9ED1-B2DEFDF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CA5B-2E1F-4F0C-8510-27FDA924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94825-D64B-43C5-B0B5-CA4F6CD6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805D-FEF1-4488-A0FE-4F35462D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1A6C-2F37-49E2-88BC-0CF34564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C8A5-89E8-4F7F-8B76-0FFC47A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3D59-BB4E-46C5-80A7-E96CCBA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C293-75AC-4C89-8E77-9B838BED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89B3B-B2F9-4D48-AC44-DCD8A16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1A7B-DA03-4B5F-820D-354F496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764-BEE9-4832-A9BB-B482B95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C138-89C2-4412-B552-7AFCE9C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8551-2BEB-4306-A031-D15A14D9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14FC5-6B74-4B23-8C51-AEF04E79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328AF-9735-4700-9510-0EAB7F2D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5265-02A4-4867-B320-CCE8FC8C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8FB3-A050-49CE-B218-A6B94339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D2EF-0A0D-4EE8-93CA-CF416B6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4A46-0BEA-48C7-9BC2-7F5E1D30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9CB0-5DD3-4D68-BBD6-13AFA92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CB802-A4F9-4E98-B850-D5610C3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EF2-D6A8-451C-82A9-082A833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88822-ADB6-408C-A5E6-A59FFEA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8524C-5C97-4F31-B9EE-EE87C0E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9925-C03C-4802-B279-36626A6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FA95-51B3-432B-9D16-2CDFBFF4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9ADA8-4C3E-4F83-9251-628F2A0F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E11F5-7466-4AEB-ABD5-9A498EF2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A6D1-5890-4144-9612-DC13B9E3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9E772-648D-46CB-955B-2B368364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4F7F4-1DA9-40CA-B7FC-F3238E1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2CC3D-8738-4D24-8AD2-A0D3A92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AA8-E29B-4086-B0CF-7D529D442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E2F9-2A30-4AEC-ABED-7A7AA9D04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FA77-8C00-4954-A191-D7BE9EC75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6F22-36F8-4B6D-B292-586B8A36F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DF72-0FF7-4799-9D40-9F9FF6248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949-4B67-4525-9603-217AC08DCC6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618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619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63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637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0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641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645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8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649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62E-C697-41D2-A236-55AFEC5263E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4385-4D21-434C-91FE-10A65A2FEB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7D2-1C62-4669-AE26-68079A434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E07-13F4-451B-8FDE-7F8B64B2B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1216-C0A2-4771-90CE-AC732946A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37F7-D7CA-470F-922D-740B8ABDF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04E-71FC-4632-8233-95B4730A6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64A-3A13-49D4-884A-BCD9F634C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A51-1E49-4594-B61D-E01992364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14.jpeg"/><Relationship Id="rId10" Type="http://schemas.openxmlformats.org/officeDocument/2006/relationships/image" Target="../media/image13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7.jpeg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8.jpeg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8.jpeg"/><Relationship Id="rId9" Type="http://schemas.openxmlformats.org/officeDocument/2006/relationships/image" Target="../media/image13.jpeg"/><Relationship Id="rId10" Type="http://schemas.openxmlformats.org/officeDocument/2006/relationships/image" Target="../media/image19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16.jpeg"/><Relationship Id="rId5" Type="http://schemas.openxmlformats.org/officeDocument/2006/relationships/image" Target="../media/image11.jpeg"/><Relationship Id="rId6" Type="http://schemas.openxmlformats.org/officeDocument/2006/relationships/image" Target="../media/image15.jpeg"/><Relationship Id="rId7" Type="http://schemas.openxmlformats.org/officeDocument/2006/relationships/image" Target="../media/image9.jpeg"/><Relationship Id="rId8" Type="http://schemas.openxmlformats.org/officeDocument/2006/relationships/image" Target="../media/image14.jpeg"/><Relationship Id="rId9" Type="http://schemas.openxmlformats.org/officeDocument/2006/relationships/image" Target="../media/image18.jpeg"/><Relationship Id="rId10" Type="http://schemas.openxmlformats.org/officeDocument/2006/relationships/image" Target="../media/image13.jpeg"/><Relationship Id="rId11" Type="http://schemas.openxmlformats.org/officeDocument/2006/relationships/image" Target="../media/image20.jpeg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Users/&#1072;&#1076;&#1084;&#1080;&#1085;/Desktop/&#1091;&#1088;&#1086;&#1082;%20&#1089;&#1077;&#1084;&#1080;&#1085;&#1072;&#1088;/&#1076;&#1077;&#1083;&#1086;&#1074;&#1072;&#1103;%20&#1080;&#1075;&#1088;&#1072;.ppt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3"/>
          <p:cNvSpPr/>
          <p:nvPr/>
        </p:nvSpPr>
        <p:spPr>
          <a:xfrm>
            <a:off x="380880" y="685800"/>
            <a:ext cx="86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Прямоугольник 1"/>
          <p:cNvSpPr/>
          <p:nvPr/>
        </p:nvSpPr>
        <p:spPr>
          <a:xfrm>
            <a:off x="457200" y="6890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талантливые, дети! Когда-нибудь вы сами приятно поразитесь, какие вы умные, как много и хорошо умеете, если будете постоянно работать над собой, ставить новые цели стремиться к их достижению…» (Ж.Ж.Русс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5" name="AutoShape 15"/>
          <p:cNvSpPr/>
          <p:nvPr/>
        </p:nvSpPr>
        <p:spPr>
          <a:xfrm>
            <a:off x="803160" y="985680"/>
            <a:ext cx="7678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оков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6"/>
          <p:cNvSpPr/>
          <p:nvPr/>
        </p:nvSpPr>
        <p:spPr>
          <a:xfrm>
            <a:off x="81756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27">
            <a:hlinkClick r:id="" action="ppaction://hlinkshowjump?jump=nextslide"/>
          </p:cNvPr>
          <p:cNvSpPr/>
          <p:nvPr/>
        </p:nvSpPr>
        <p:spPr>
          <a:xfrm>
            <a:off x="6675480" y="5564160"/>
            <a:ext cx="1396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462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32">
            <a:hlinkClick r:id="" action="ppaction://hlinkshowjump?jump=lastslide"/>
          </p:cNvPr>
          <p:cNvSpPr/>
          <p:nvPr/>
        </p:nvSpPr>
        <p:spPr>
          <a:xfrm>
            <a:off x="470232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36">
            <a:hlinkClick r:id="" action="ppaction://hlinkshowjump?jump=lastslide"/>
          </p:cNvPr>
          <p:cNvSpPr/>
          <p:nvPr/>
        </p:nvSpPr>
        <p:spPr>
          <a:xfrm>
            <a:off x="6492960" y="4070520"/>
            <a:ext cx="1801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37">
            <a:hlinkClick r:id="" action="ppaction://hlinkshowjump?jump=lastslide"/>
          </p:cNvPr>
          <p:cNvSpPr/>
          <p:nvPr/>
        </p:nvSpPr>
        <p:spPr>
          <a:xfrm>
            <a:off x="2784600" y="4070520"/>
            <a:ext cx="1704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38">
            <a:hlinkClick r:id="" action="ppaction://hlinkshowjump?jump=lastslide"/>
          </p:cNvPr>
          <p:cNvSpPr/>
          <p:nvPr/>
        </p:nvSpPr>
        <p:spPr>
          <a:xfrm>
            <a:off x="817560" y="5564160"/>
            <a:ext cx="1787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39">
            <a:hlinkClick r:id="" action="ppaction://hlinkshowjump?jump=lastslide"/>
          </p:cNvPr>
          <p:cNvSpPr/>
          <p:nvPr/>
        </p:nvSpPr>
        <p:spPr>
          <a:xfrm>
            <a:off x="4664160" y="5564160"/>
            <a:ext cx="1749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40">
            <a:hlinkClick r:id="" action="ppaction://hlinkshowjump?jump=lastslide"/>
          </p:cNvPr>
          <p:cNvSpPr/>
          <p:nvPr/>
        </p:nvSpPr>
        <p:spPr>
          <a:xfrm>
            <a:off x="2782800" y="5564160"/>
            <a:ext cx="1789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Рисунок 32" descr=""/>
          <p:cNvPicPr/>
          <p:nvPr/>
        </p:nvPicPr>
        <p:blipFill>
          <a:blip r:embed="rId1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5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" descr=""/>
          <p:cNvPicPr/>
          <p:nvPr/>
        </p:nvPicPr>
        <p:blipFill>
          <a:blip r:embed="rId3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5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5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5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5" name="AutoShape 15"/>
          <p:cNvSpPr/>
          <p:nvPr/>
        </p:nvSpPr>
        <p:spPr>
          <a:xfrm>
            <a:off x="831960" y="86184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полн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 Box 16"/>
          <p:cNvSpPr/>
          <p:nvPr/>
        </p:nvSpPr>
        <p:spPr>
          <a:xfrm>
            <a:off x="803160" y="0"/>
            <a:ext cx="76485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5">
            <a:hlinkClick r:id="" action="ppaction://hlinkshowjump?jump=nextslide"/>
          </p:cNvPr>
          <p:cNvSpPr/>
          <p:nvPr/>
        </p:nvSpPr>
        <p:spPr>
          <a:xfrm>
            <a:off x="757080" y="5564160"/>
            <a:ext cx="19083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AutoShape 31">
            <a:hlinkClick r:id="" action="ppaction://hlinkshowjump?jump=lastslide"/>
          </p:cNvPr>
          <p:cNvSpPr/>
          <p:nvPr/>
        </p:nvSpPr>
        <p:spPr>
          <a:xfrm>
            <a:off x="927000" y="2577960"/>
            <a:ext cx="1606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AutoShape 32">
            <a:hlinkClick r:id="" action="ppaction://hlinkshowjump?jump=lastslide"/>
          </p:cNvPr>
          <p:cNvSpPr/>
          <p:nvPr/>
        </p:nvSpPr>
        <p:spPr>
          <a:xfrm>
            <a:off x="46641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AutoShape 33">
            <a:hlinkClick r:id="" action="ppaction://hlinkshowjump?jump=lastslide"/>
          </p:cNvPr>
          <p:cNvSpPr/>
          <p:nvPr/>
        </p:nvSpPr>
        <p:spPr>
          <a:xfrm>
            <a:off x="6594480" y="2577960"/>
            <a:ext cx="1690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AutoShape 36">
            <a:hlinkClick r:id="" action="ppaction://hlinkshowjump?jump=lastslide"/>
          </p:cNvPr>
          <p:cNvSpPr/>
          <p:nvPr/>
        </p:nvSpPr>
        <p:spPr>
          <a:xfrm>
            <a:off x="6518160" y="4070520"/>
            <a:ext cx="18036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AutoShape 37">
            <a:hlinkClick r:id="" action="ppaction://hlinkshowjump?jump=lastslide"/>
          </p:cNvPr>
          <p:cNvSpPr/>
          <p:nvPr/>
        </p:nvSpPr>
        <p:spPr>
          <a:xfrm>
            <a:off x="2757600" y="407052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AutoShape 38">
            <a:hlinkClick r:id="" action="ppaction://hlinkshowjump?jump=lastslide"/>
          </p:cNvPr>
          <p:cNvSpPr/>
          <p:nvPr/>
        </p:nvSpPr>
        <p:spPr>
          <a:xfrm>
            <a:off x="4637160" y="556416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AutoShape 40">
            <a:hlinkClick r:id="" action="ppaction://hlinkshowjump?jump=lastslide"/>
          </p:cNvPr>
          <p:cNvSpPr/>
          <p:nvPr/>
        </p:nvSpPr>
        <p:spPr>
          <a:xfrm>
            <a:off x="2768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Рисунок 32" descr=""/>
          <p:cNvPicPr/>
          <p:nvPr/>
        </p:nvPicPr>
        <p:blipFill>
          <a:blip r:embed="rId1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  <p:pic>
        <p:nvPicPr>
          <p:cNvPr id="88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81" name="Рисунок 34" descr=""/>
          <p:cNvPicPr/>
          <p:nvPr/>
        </p:nvPicPr>
        <p:blipFill>
          <a:blip r:embed="rId3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82" name="Рисунок 1" descr=""/>
          <p:cNvPicPr/>
          <p:nvPr/>
        </p:nvPicPr>
        <p:blipFill>
          <a:blip r:embed="rId4"/>
          <a:stretch/>
        </p:blipFill>
        <p:spPr>
          <a:xfrm>
            <a:off x="6497640" y="5160960"/>
            <a:ext cx="18986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8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8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8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96" name="AutoShape 15"/>
          <p:cNvSpPr/>
          <p:nvPr/>
        </p:nvSpPr>
        <p:spPr>
          <a:xfrm>
            <a:off x="831960" y="958680"/>
            <a:ext cx="7659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евого сече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 Box 16"/>
          <p:cNvSpPr/>
          <p:nvPr/>
        </p:nvSpPr>
        <p:spPr>
          <a:xfrm>
            <a:off x="844560" y="28440"/>
            <a:ext cx="7662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AutoShape 24">
            <a:hlinkClick r:id="" action="ppaction://hlinkshowjump?jump=nextslide"/>
          </p:cNvPr>
          <p:cNvSpPr/>
          <p:nvPr/>
        </p:nvSpPr>
        <p:spPr>
          <a:xfrm>
            <a:off x="2798640" y="4070520"/>
            <a:ext cx="1690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AutoShape 31">
            <a:hlinkClick r:id="" action="ppaction://hlinkshowjump?jump=lastslide"/>
          </p:cNvPr>
          <p:cNvSpPr/>
          <p:nvPr/>
        </p:nvSpPr>
        <p:spPr>
          <a:xfrm>
            <a:off x="874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AutoShape 32">
            <a:hlinkClick r:id="" action="ppaction://hlinkshowjump?jump=lastslide"/>
          </p:cNvPr>
          <p:cNvSpPr/>
          <p:nvPr/>
        </p:nvSpPr>
        <p:spPr>
          <a:xfrm>
            <a:off x="4572000" y="2577960"/>
            <a:ext cx="18032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6">
            <a:hlinkClick r:id="" action="ppaction://hlinkshowjump?jump=lastslide"/>
          </p:cNvPr>
          <p:cNvSpPr/>
          <p:nvPr/>
        </p:nvSpPr>
        <p:spPr>
          <a:xfrm>
            <a:off x="6505560" y="4070520"/>
            <a:ext cx="18543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38">
            <a:hlinkClick r:id="" action="ppaction://hlinkshowjump?jump=las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59400" y="3579840"/>
            <a:ext cx="1923840" cy="166536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801720" y="3524400"/>
            <a:ext cx="1927080" cy="1687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4280" y="2000160"/>
            <a:ext cx="1973160" cy="1631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09640" y="5194440"/>
            <a:ext cx="189216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Рисунок 1" descr=""/>
          <p:cNvPicPr/>
          <p:nvPr/>
        </p:nvPicPr>
        <p:blipFill>
          <a:blip r:embed="rId6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16" name="Рисунок 2" descr=""/>
          <p:cNvPicPr/>
          <p:nvPr/>
        </p:nvPicPr>
        <p:blipFill>
          <a:blip r:embed="rId7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17" name="Рисунок 3" descr=""/>
          <p:cNvPicPr/>
          <p:nvPr/>
        </p:nvPicPr>
        <p:blipFill>
          <a:blip r:embed="rId8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18" name="Рисунок 4" descr=""/>
          <p:cNvPicPr/>
          <p:nvPr/>
        </p:nvPicPr>
        <p:blipFill>
          <a:blip r:embed="rId9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19" name="Рисунок 5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21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2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23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24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5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6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7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9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0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2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3" name="AutoShape 15"/>
          <p:cNvSpPr/>
          <p:nvPr/>
        </p:nvSpPr>
        <p:spPr>
          <a:xfrm>
            <a:off x="747720" y="709560"/>
            <a:ext cx="762012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цилиндра плоскостью, перпендикулярной оси, являетс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16"/>
          <p:cNvSpPr/>
          <p:nvPr/>
        </p:nvSpPr>
        <p:spPr>
          <a:xfrm>
            <a:off x="831960" y="28440"/>
            <a:ext cx="75088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AutoShape 19">
            <a:hlinkClick r:id="" action="ppaction://hlinkshowjump?jump=nextslide"/>
          </p:cNvPr>
          <p:cNvSpPr/>
          <p:nvPr/>
        </p:nvSpPr>
        <p:spPr>
          <a:xfrm>
            <a:off x="6505560" y="2577960"/>
            <a:ext cx="1828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AutoShape 31">
            <a:hlinkClick r:id="" action="ppaction://hlinkshowjump?jump=lastslide"/>
          </p:cNvPr>
          <p:cNvSpPr/>
          <p:nvPr/>
        </p:nvSpPr>
        <p:spPr>
          <a:xfrm>
            <a:off x="861840" y="2577960"/>
            <a:ext cx="1737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AutoShape 32">
            <a:hlinkClick r:id="" action="ppaction://hlinkshowjump?jump=lastslide"/>
          </p:cNvPr>
          <p:cNvSpPr/>
          <p:nvPr/>
        </p:nvSpPr>
        <p:spPr>
          <a:xfrm>
            <a:off x="4741920" y="257796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AutoShape 35">
            <a:hlinkClick r:id="" action="ppaction://hlinkshowjump?jump=lastslide"/>
          </p:cNvPr>
          <p:cNvSpPr/>
          <p:nvPr/>
        </p:nvSpPr>
        <p:spPr>
          <a:xfrm>
            <a:off x="6492960" y="4070520"/>
            <a:ext cx="1854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AutoShape 38">
            <a:hlinkClick r:id="" action="ppaction://hlinkshowjump?jump=lastslide"/>
          </p:cNvPr>
          <p:cNvSpPr/>
          <p:nvPr/>
        </p:nvSpPr>
        <p:spPr>
          <a:xfrm>
            <a:off x="4664160" y="5564160"/>
            <a:ext cx="1724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Рисунок 34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35" descr=""/>
          <p:cNvPicPr/>
          <p:nvPr/>
        </p:nvPicPr>
        <p:blipFill>
          <a:blip r:embed="rId2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36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50" name="Рисунок 37" descr=""/>
          <p:cNvPicPr/>
          <p:nvPr/>
        </p:nvPicPr>
        <p:blipFill>
          <a:blip r:embed="rId4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38" descr=""/>
          <p:cNvPicPr/>
          <p:nvPr/>
        </p:nvPicPr>
        <p:blipFill>
          <a:blip r:embed="rId5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1" descr=""/>
          <p:cNvPicPr/>
          <p:nvPr/>
        </p:nvPicPr>
        <p:blipFill>
          <a:blip r:embed="rId6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5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5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5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6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6" name="AutoShape 15"/>
          <p:cNvSpPr/>
          <p:nvPr/>
        </p:nvSpPr>
        <p:spPr>
          <a:xfrm>
            <a:off x="803160" y="746280"/>
            <a:ext cx="767556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ошение площадей боковой поверхности и осевого сечения цилиндра рав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803160" y="28440"/>
            <a:ext cx="76345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7">
            <a:hlinkClick r:id="" action="ppaction://hlinkshowjump?jump=nextslide"/>
          </p:cNvPr>
          <p:cNvSpPr/>
          <p:nvPr/>
        </p:nvSpPr>
        <p:spPr>
          <a:xfrm>
            <a:off x="888840" y="2577960"/>
            <a:ext cx="16844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AutoShape 31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35">
            <a:hlinkClick r:id="" action="ppaction://hlinkshowjump?jump=lastslide"/>
          </p:cNvPr>
          <p:cNvSpPr/>
          <p:nvPr/>
        </p:nvSpPr>
        <p:spPr>
          <a:xfrm>
            <a:off x="6570720" y="407052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38">
            <a:hlinkClick r:id="" action="ppaction://hlinkshowjump?jump=lastslide"/>
          </p:cNvPr>
          <p:cNvSpPr/>
          <p:nvPr/>
        </p:nvSpPr>
        <p:spPr>
          <a:xfrm>
            <a:off x="4676760" y="5564160"/>
            <a:ext cx="1763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03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Рисунок 35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81" name="Рисунок 36" descr=""/>
          <p:cNvPicPr/>
          <p:nvPr/>
        </p:nvPicPr>
        <p:blipFill>
          <a:blip r:embed="rId2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82" name="Рисунок 37" descr=""/>
          <p:cNvPicPr/>
          <p:nvPr/>
        </p:nvPicPr>
        <p:blipFill>
          <a:blip r:embed="rId3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38" descr=""/>
          <p:cNvPicPr/>
          <p:nvPr/>
        </p:nvPicPr>
        <p:blipFill>
          <a:blip r:embed="rId4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39" descr=""/>
          <p:cNvPicPr/>
          <p:nvPr/>
        </p:nvPicPr>
        <p:blipFill>
          <a:blip r:embed="rId5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85" name="Рисунок 40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86" name="Рисунок 1" descr=""/>
          <p:cNvPicPr/>
          <p:nvPr/>
        </p:nvPicPr>
        <p:blipFill>
          <a:blip r:embed="rId7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88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9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90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91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2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3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4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5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6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7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8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9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0" name="AutoShape 15"/>
          <p:cNvSpPr/>
          <p:nvPr/>
        </p:nvSpPr>
        <p:spPr>
          <a:xfrm>
            <a:off x="789120" y="749160"/>
            <a:ext cx="770400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равностороннего цилиндра высота равн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16"/>
          <p:cNvSpPr/>
          <p:nvPr/>
        </p:nvSpPr>
        <p:spPr>
          <a:xfrm>
            <a:off x="817560" y="28440"/>
            <a:ext cx="7716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6">
            <a:hlinkClick r:id="" action="ppaction://hlinkshowjump?jump=nex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AutoShape 32">
            <a:hlinkClick r:id="" action="ppaction://hlinkshowjump?jump=lastslide"/>
          </p:cNvPr>
          <p:cNvSpPr/>
          <p:nvPr/>
        </p:nvSpPr>
        <p:spPr>
          <a:xfrm>
            <a:off x="4767120" y="2577960"/>
            <a:ext cx="16336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AutoShape 36">
            <a:hlinkClick r:id="" action="ppaction://hlinkshowjump?jump=lastslide"/>
          </p:cNvPr>
          <p:cNvSpPr/>
          <p:nvPr/>
        </p:nvSpPr>
        <p:spPr>
          <a:xfrm>
            <a:off x="6531120" y="4070520"/>
            <a:ext cx="1828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AutoShape 37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AutoShape 38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AutoShape 40">
            <a:hlinkClick r:id="" action="ppaction://hlinkshowjump?jump=lastslide"/>
          </p:cNvPr>
          <p:cNvSpPr/>
          <p:nvPr/>
        </p:nvSpPr>
        <p:spPr>
          <a:xfrm>
            <a:off x="2808360" y="5564160"/>
            <a:ext cx="1711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Рисунок 36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5" name="Рисунок 37" descr=""/>
          <p:cNvPicPr/>
          <p:nvPr/>
        </p:nvPicPr>
        <p:blipFill>
          <a:blip r:embed="rId2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16" name="Рисунок 38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17" name="Рисунок 39" descr=""/>
          <p:cNvPicPr/>
          <p:nvPr/>
        </p:nvPicPr>
        <p:blipFill>
          <a:blip r:embed="rId4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1018" name="Рисунок 40" descr=""/>
          <p:cNvPicPr/>
          <p:nvPr/>
        </p:nvPicPr>
        <p:blipFill>
          <a:blip r:embed="rId5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19" name="Рисунок 42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20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21" name="Рисунок 1" descr=""/>
          <p:cNvPicPr/>
          <p:nvPr/>
        </p:nvPicPr>
        <p:blipFill>
          <a:blip r:embed="rId8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5" name="AutoShape 15"/>
          <p:cNvSpPr/>
          <p:nvPr/>
        </p:nvSpPr>
        <p:spPr>
          <a:xfrm>
            <a:off x="747720" y="67932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евое сечение равностороннего цилиндр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76212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AutoShape 18">
            <a:hlinkClick r:id="" action="ppaction://hlinkshowjump?jump=nextslide"/>
          </p:cNvPr>
          <p:cNvSpPr/>
          <p:nvPr/>
        </p:nvSpPr>
        <p:spPr>
          <a:xfrm>
            <a:off x="4834080" y="2577960"/>
            <a:ext cx="1566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AutoShape 35">
            <a:hlinkClick r:id="" action="ppaction://hlinkshowjump?jump=lastslide"/>
          </p:cNvPr>
          <p:cNvSpPr/>
          <p:nvPr/>
        </p:nvSpPr>
        <p:spPr>
          <a:xfrm>
            <a:off x="6492960" y="4083120"/>
            <a:ext cx="18288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79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9" name="Рисунок 37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50" name="Рисунок 38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51" name="Рисунок 39" descr=""/>
          <p:cNvPicPr/>
          <p:nvPr/>
        </p:nvPicPr>
        <p:blipFill>
          <a:blip r:embed="rId3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52" name="Рисунок 40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53" name="Рисунок 41" descr=""/>
          <p:cNvPicPr/>
          <p:nvPr/>
        </p:nvPicPr>
        <p:blipFill>
          <a:blip r:embed="rId5"/>
          <a:stretch/>
        </p:blipFill>
        <p:spPr>
          <a:xfrm>
            <a:off x="2716200" y="3625920"/>
            <a:ext cx="1846440" cy="1806480"/>
          </a:xfrm>
          <a:prstGeom prst="rect">
            <a:avLst/>
          </a:prstGeom>
          <a:ln w="0">
            <a:noFill/>
          </a:ln>
        </p:spPr>
      </p:pic>
      <p:pic>
        <p:nvPicPr>
          <p:cNvPr id="1054" name="Рисунок 42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55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56" name="Рисунок 44" descr=""/>
          <p:cNvPicPr/>
          <p:nvPr/>
        </p:nvPicPr>
        <p:blipFill>
          <a:blip r:embed="rId8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57" name="Рисунок 1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59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0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61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62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3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4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5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6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7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8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9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0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1" name="AutoShape 15"/>
          <p:cNvSpPr/>
          <p:nvPr/>
        </p:nvSpPr>
        <p:spPr>
          <a:xfrm>
            <a:off x="817560" y="95868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образующих имеет цилин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831960" y="28440"/>
            <a:ext cx="7576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AutoShape 23">
            <a:hlinkClick r:id="" action="ppaction://hlinkshowjump?jump=nextslide"/>
          </p:cNvPr>
          <p:cNvSpPr/>
          <p:nvPr/>
        </p:nvSpPr>
        <p:spPr>
          <a:xfrm>
            <a:off x="6558120" y="4070520"/>
            <a:ext cx="17492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AutoShape 32">
            <a:hlinkClick r:id="" action="ppaction://hlinkshowjump?jump=las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14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Рисунок 38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86" name="Рисунок 39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87" name="Рисунок 40" descr=""/>
          <p:cNvPicPr/>
          <p:nvPr/>
        </p:nvPicPr>
        <p:blipFill>
          <a:blip r:embed="rId3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088" name="Рисунок 41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89" name="Рисунок 42" descr=""/>
          <p:cNvPicPr/>
          <p:nvPr/>
        </p:nvPicPr>
        <p:blipFill>
          <a:blip r:embed="rId5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090" name="Рисунок 43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44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92" name="Рисунок 45" descr=""/>
          <p:cNvPicPr/>
          <p:nvPr/>
        </p:nvPicPr>
        <p:blipFill>
          <a:blip r:embed="rId8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093" name="Рисунок 46" descr=""/>
          <p:cNvPicPr/>
          <p:nvPr/>
        </p:nvPicPr>
        <p:blipFill>
          <a:blip r:embed="rId9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94" name="Рисунок 1" descr=""/>
          <p:cNvPicPr/>
          <p:nvPr/>
        </p:nvPicPr>
        <p:blipFill>
          <a:blip r:embed="rId10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9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9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9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8" name="AutoShape 15"/>
          <p:cNvSpPr/>
          <p:nvPr/>
        </p:nvSpPr>
        <p:spPr>
          <a:xfrm>
            <a:off x="871560" y="917640"/>
            <a:ext cx="74833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 цилиндра равен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934920" y="0"/>
            <a:ext cx="7405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20">
            <a:hlinkClick r:id="" action="ppaction://hlinkshowjump?jump=lastslide"/>
          </p:cNvPr>
          <p:cNvSpPr/>
          <p:nvPr/>
        </p:nvSpPr>
        <p:spPr>
          <a:xfrm>
            <a:off x="3287880" y="2590920"/>
            <a:ext cx="9061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AutoShape 28">
            <a:hlinkClick r:id="" action="ppaction://hlinkshowjump?jump=nextslide"/>
          </p:cNvPr>
          <p:cNvSpPr/>
          <p:nvPr/>
        </p:nvSpPr>
        <p:spPr>
          <a:xfrm>
            <a:off x="2820960" y="5564160"/>
            <a:ext cx="1541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Рисунок 39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123" name="Рисунок 40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4" name="Рисунок 41" descr=""/>
          <p:cNvPicPr/>
          <p:nvPr/>
        </p:nvPicPr>
        <p:blipFill>
          <a:blip r:embed="rId3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  <p:pic>
        <p:nvPicPr>
          <p:cNvPr id="1125" name="Рисунок 42" descr=""/>
          <p:cNvPicPr/>
          <p:nvPr/>
        </p:nvPicPr>
        <p:blipFill>
          <a:blip r:embed="rId4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126" name="Рисунок 43" descr=""/>
          <p:cNvPicPr/>
          <p:nvPr/>
        </p:nvPicPr>
        <p:blipFill>
          <a:blip r:embed="rId5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127" name="Рисунок 44" descr=""/>
          <p:cNvPicPr/>
          <p:nvPr/>
        </p:nvPicPr>
        <p:blipFill>
          <a:blip r:embed="rId6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128" name="Рисунок 45" descr=""/>
          <p:cNvPicPr/>
          <p:nvPr/>
        </p:nvPicPr>
        <p:blipFill>
          <a:blip r:embed="rId7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129" name="Рисунок 46" descr=""/>
          <p:cNvPicPr/>
          <p:nvPr/>
        </p:nvPicPr>
        <p:blipFill>
          <a:blip r:embed="rId8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130" name="Рисунок 47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131" name="Рисунок 48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132" name="Рисунок 1" descr=""/>
          <p:cNvPicPr/>
          <p:nvPr/>
        </p:nvPicPr>
        <p:blipFill>
          <a:blip r:embed="rId11"/>
          <a:stretch/>
        </p:blipFill>
        <p:spPr>
          <a:xfrm>
            <a:off x="6402240" y="3503520"/>
            <a:ext cx="200052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AutoShape 28">
            <a:hlinkClick r:id="" action="ppaction://hlinkshowjump?jump=nextslide"/>
          </p:cNvPr>
          <p:cNvSpPr/>
          <p:nvPr/>
        </p:nvSpPr>
        <p:spPr>
          <a:xfrm>
            <a:off x="326232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4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4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135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6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137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138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9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0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1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2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3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5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46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47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AutoShape 20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AutoShape 31">
            <a:hlinkClick r:id="rId1"/>
          </p:cNvPr>
          <p:cNvSpPr/>
          <p:nvPr/>
        </p:nvSpPr>
        <p:spPr>
          <a:xfrm>
            <a:off x="8362800" y="5072040"/>
            <a:ext cx="781200" cy="1246320"/>
          </a:xfrm>
          <a:custGeom>
            <a:avLst/>
            <a:gdLst>
              <a:gd name="textAreaLeft" fmla="*/ 50400 w 781200"/>
              <a:gd name="textAreaRight" fmla="*/ 730800 w 781200"/>
              <a:gd name="textAreaTop" fmla="*/ 50400 h 1246320"/>
              <a:gd name="textAreaBottom" fmla="*/ 1195920 h 1246320"/>
            </a:gdLst>
            <a:ahLst/>
            <a:rect l="textAreaLeft" t="textAreaTop" r="textAreaRight" b="textAreaBottom"/>
            <a:pathLst>
              <a:path w="21600" h="34455">
                <a:moveTo>
                  <a:pt x="0" y="0"/>
                </a:moveTo>
                <a:lnTo>
                  <a:pt x="21600" y="0"/>
                </a:lnTo>
                <a:lnTo>
                  <a:pt x="21600" y="34455"/>
                </a:lnTo>
                <a:lnTo>
                  <a:pt x="0" y="34455"/>
                </a:lnTo>
                <a:close/>
              </a:path>
              <a:path fill="lightenLess" w="21600" h="34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455">
                <a:moveTo>
                  <a:pt x="21600" y="0"/>
                </a:moveTo>
                <a:lnTo>
                  <a:pt x="21600" y="34455"/>
                </a:lnTo>
                <a:lnTo>
                  <a:pt x="20200" y="33055"/>
                </a:lnTo>
                <a:lnTo>
                  <a:pt x="20200" y="1400"/>
                </a:lnTo>
                <a:close/>
              </a:path>
              <a:path fill="darkenLess" w="21600" h="34455">
                <a:moveTo>
                  <a:pt x="21600" y="34455"/>
                </a:moveTo>
                <a:lnTo>
                  <a:pt x="0" y="34455"/>
                </a:lnTo>
                <a:lnTo>
                  <a:pt x="1400" y="33055"/>
                </a:lnTo>
                <a:lnTo>
                  <a:pt x="20200" y="33055"/>
                </a:lnTo>
                <a:close/>
              </a:path>
              <a:path fill="lighten" w="21600" h="34455">
                <a:moveTo>
                  <a:pt x="0" y="34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055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0"/>
          </a:gra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припев колодец.mp3" descr=""/>
          <p:cNvPicPr/>
          <p:nvPr/>
        </p:nvPicPr>
        <p:blipFill>
          <a:blip r:embed="rId2"/>
          <a:stretch/>
        </p:blipFill>
        <p:spPr>
          <a:xfrm>
            <a:off x="86598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0" name="Рисунок 1" descr=""/>
          <p:cNvPicPr/>
          <p:nvPr/>
        </p:nvPicPr>
        <p:blipFill>
          <a:blip r:embed="rId3"/>
          <a:stretch/>
        </p:blipFill>
        <p:spPr>
          <a:xfrm>
            <a:off x="741240" y="1665360"/>
            <a:ext cx="75675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4258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Объект WordArt 1"/>
          <p:cNvSpPr txBox="1"/>
          <p:nvPr/>
        </p:nvSpPr>
        <p:spPr>
          <a:xfrm>
            <a:off x="609480" y="103032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УРОК - ОБОБЩ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ПО ТЕМЕ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710" name="TextBox 3" descr=""/>
          <p:cNvPicPr/>
          <p:nvPr/>
        </p:nvPicPr>
        <p:blipFill>
          <a:blip r:embed="rId1"/>
          <a:stretch/>
        </p:blipFill>
        <p:spPr>
          <a:xfrm>
            <a:off x="2682720" y="2651040"/>
            <a:ext cx="60166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711" name="Группа 5"/>
          <p:cNvGrpSpPr/>
          <p:nvPr/>
        </p:nvGrpSpPr>
        <p:grpSpPr>
          <a:xfrm>
            <a:off x="380880" y="2824200"/>
            <a:ext cx="2867040" cy="4033800"/>
            <a:chOff x="380880" y="2824200"/>
            <a:chExt cx="2867040" cy="4033800"/>
          </a:xfrm>
        </p:grpSpPr>
        <p:sp>
          <p:nvSpPr>
            <p:cNvPr id="712" name="Автофигура 3"/>
            <p:cNvSpPr/>
            <p:nvPr/>
          </p:nvSpPr>
          <p:spPr>
            <a:xfrm>
              <a:off x="453960" y="3056040"/>
              <a:ext cx="2663640" cy="3384720"/>
            </a:xfrm>
            <a:prstGeom prst="flowChartMagneticDisk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9c2fa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91658" dir="19582341" blurRad="0" rotWithShape="0">
                <a:srgbClr val="99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Автофигура 4"/>
            <p:cNvSpPr/>
            <p:nvPr/>
          </p:nvSpPr>
          <p:spPr>
            <a:xfrm>
              <a:off x="380880" y="5680080"/>
              <a:ext cx="2867040" cy="949320"/>
            </a:xfrm>
            <a:custGeom>
              <a:avLst/>
              <a:gdLst>
                <a:gd name="textAreaLeft" fmla="*/ 72720 w 2867040"/>
                <a:gd name="textAreaRight" fmla="*/ 2706840 w 2867040"/>
                <a:gd name="textAreaTop" fmla="*/ 0 h 949320"/>
                <a:gd name="textAreaBottom" fmla="*/ 474840 h 949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  <a:lnTo>
                    <a:pt x="10800" y="10800"/>
                  </a:lnTo>
                  <a:lnTo>
                    <a:pt x="505" y="7533"/>
                  </a:lnTo>
                  <a:close/>
                </a:path>
                <a:path fill="none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Линия 5"/>
            <p:cNvSpPr/>
            <p:nvPr/>
          </p:nvSpPr>
          <p:spPr>
            <a:xfrm>
              <a:off x="1720800" y="2824200"/>
              <a:ext cx="1440" cy="403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5" name="Группа 6"/>
            <p:cNvGrpSpPr/>
            <p:nvPr/>
          </p:nvGrpSpPr>
          <p:grpSpPr>
            <a:xfrm>
              <a:off x="875880" y="3149640"/>
              <a:ext cx="1619640" cy="3191040"/>
              <a:chOff x="875880" y="3149640"/>
              <a:chExt cx="1619640" cy="3191040"/>
            </a:xfrm>
          </p:grpSpPr>
          <p:sp>
            <p:nvSpPr>
              <p:cNvPr id="716" name="Линия 7"/>
              <p:cNvSpPr/>
              <p:nvPr/>
            </p:nvSpPr>
            <p:spPr>
              <a:xfrm flipV="1">
                <a:off x="880920" y="3208320"/>
                <a:ext cx="1611360" cy="79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Линия 8"/>
              <p:cNvSpPr/>
              <p:nvPr/>
            </p:nvSpPr>
            <p:spPr>
              <a:xfrm>
                <a:off x="880920" y="3994200"/>
                <a:ext cx="1800" cy="23432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Линия 9"/>
              <p:cNvSpPr/>
              <p:nvPr/>
            </p:nvSpPr>
            <p:spPr>
              <a:xfrm flipV="1">
                <a:off x="880920" y="5745240"/>
                <a:ext cx="1611360" cy="595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Линия 10"/>
              <p:cNvSpPr/>
              <p:nvPr/>
            </p:nvSpPr>
            <p:spPr>
              <a:xfrm>
                <a:off x="2490840" y="3149640"/>
                <a:ext cx="1440" cy="260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Линия 11"/>
              <p:cNvSpPr/>
              <p:nvPr/>
            </p:nvSpPr>
            <p:spPr>
              <a:xfrm flipH="1">
                <a:off x="875880" y="3799080"/>
                <a:ext cx="430200" cy="52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Линия 12"/>
              <p:cNvSpPr/>
              <p:nvPr/>
            </p:nvSpPr>
            <p:spPr>
              <a:xfrm flipV="1">
                <a:off x="880920" y="3533400"/>
                <a:ext cx="981000" cy="1181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Линия 13"/>
              <p:cNvSpPr/>
              <p:nvPr/>
            </p:nvSpPr>
            <p:spPr>
              <a:xfrm flipV="1">
                <a:off x="880920" y="3206880"/>
                <a:ext cx="1611360" cy="18972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Линия 14"/>
              <p:cNvSpPr/>
              <p:nvPr/>
            </p:nvSpPr>
            <p:spPr>
              <a:xfrm flipV="1">
                <a:off x="880920" y="3663720"/>
                <a:ext cx="1611360" cy="189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Линия 15"/>
              <p:cNvSpPr/>
              <p:nvPr/>
            </p:nvSpPr>
            <p:spPr>
              <a:xfrm flipV="1">
                <a:off x="880920" y="4119480"/>
                <a:ext cx="1611360" cy="18968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Линия 16"/>
              <p:cNvSpPr/>
              <p:nvPr/>
            </p:nvSpPr>
            <p:spPr>
              <a:xfrm flipH="1">
                <a:off x="1015920" y="4579920"/>
                <a:ext cx="1479600" cy="1690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Линия 17"/>
              <p:cNvSpPr/>
              <p:nvPr/>
            </p:nvSpPr>
            <p:spPr>
              <a:xfrm flipH="1">
                <a:off x="1574640" y="5035680"/>
                <a:ext cx="920880" cy="10414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Линия 18"/>
              <p:cNvSpPr/>
              <p:nvPr/>
            </p:nvSpPr>
            <p:spPr>
              <a:xfrm flipH="1">
                <a:off x="2134800" y="5426280"/>
                <a:ext cx="360360" cy="45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Object 2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62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AutoShape 3">
            <a:hlinkClick r:id="" action="ppaction://hlinkshowjump?jump=previousslide"/>
          </p:cNvPr>
          <p:cNvSpPr/>
          <p:nvPr/>
        </p:nvSpPr>
        <p:spPr>
          <a:xfrm>
            <a:off x="5873760" y="3527280"/>
            <a:ext cx="1641600" cy="1729080"/>
          </a:xfrm>
          <a:custGeom>
            <a:avLst/>
            <a:gdLst>
              <a:gd name="textAreaLeft" fmla="*/ 106200 w 1641600"/>
              <a:gd name="textAreaRight" fmla="*/ 1535400 w 1641600"/>
              <a:gd name="textAreaTop" fmla="*/ 106200 h 1729080"/>
              <a:gd name="textAreaBottom" fmla="*/ 1622880 h 17290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lnTo>
                  <a:pt x="21600" y="0"/>
                </a:lnTo>
                <a:lnTo>
                  <a:pt x="21600" y="22751"/>
                </a:lnTo>
                <a:lnTo>
                  <a:pt x="0" y="22751"/>
                </a:lnTo>
                <a:close/>
              </a:path>
              <a:path fill="lightenLess" w="21600" h="227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1">
                <a:moveTo>
                  <a:pt x="21600" y="0"/>
                </a:moveTo>
                <a:lnTo>
                  <a:pt x="21600" y="22751"/>
                </a:lnTo>
                <a:lnTo>
                  <a:pt x="20200" y="21351"/>
                </a:lnTo>
                <a:lnTo>
                  <a:pt x="20200" y="1400"/>
                </a:lnTo>
                <a:close/>
              </a:path>
              <a:path fill="darkenLess" w="21600" h="22751">
                <a:moveTo>
                  <a:pt x="21600" y="22751"/>
                </a:moveTo>
                <a:lnTo>
                  <a:pt x="0" y="22751"/>
                </a:lnTo>
                <a:lnTo>
                  <a:pt x="1400" y="21351"/>
                </a:lnTo>
                <a:lnTo>
                  <a:pt x="20200" y="21351"/>
                </a:lnTo>
                <a:close/>
              </a:path>
              <a:path fill="lighten" w="21600" h="22751">
                <a:moveTo>
                  <a:pt x="0" y="227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1"/>
                </a:lnTo>
                <a:close/>
              </a:path>
              <a:path fill="darken" w="21600" h="22751">
                <a:moveTo>
                  <a:pt x="3794" y="8068"/>
                </a:moveTo>
                <a:lnTo>
                  <a:pt x="7301" y="8068"/>
                </a:lnTo>
                <a:lnTo>
                  <a:pt x="7301" y="13403"/>
                </a:lnTo>
                <a:cubicBezTo>
                  <a:pt x="7301" y="14326"/>
                  <a:pt x="8102" y="15057"/>
                  <a:pt x="9138" y="15057"/>
                </a:cubicBezTo>
                <a:lnTo>
                  <a:pt x="10800" y="15057"/>
                </a:lnTo>
                <a:cubicBezTo>
                  <a:pt x="11836" y="15057"/>
                  <a:pt x="12636" y="14326"/>
                  <a:pt x="12636" y="13403"/>
                </a:cubicBezTo>
                <a:lnTo>
                  <a:pt x="12636" y="8068"/>
                </a:lnTo>
                <a:lnTo>
                  <a:pt x="10800" y="8068"/>
                </a:lnTo>
                <a:lnTo>
                  <a:pt x="14308" y="4560"/>
                </a:lnTo>
                <a:lnTo>
                  <a:pt x="17981" y="8068"/>
                </a:lnTo>
                <a:lnTo>
                  <a:pt x="16144" y="8068"/>
                </a:lnTo>
                <a:lnTo>
                  <a:pt x="16144" y="13403"/>
                </a:lnTo>
                <a:cubicBezTo>
                  <a:pt x="16144" y="16171"/>
                  <a:pt x="13568" y="18730"/>
                  <a:pt x="10800" y="18730"/>
                </a:cubicBezTo>
                <a:lnTo>
                  <a:pt x="9138" y="18730"/>
                </a:lnTo>
                <a:cubicBezTo>
                  <a:pt x="6370" y="18730"/>
                  <a:pt x="3794" y="16171"/>
                  <a:pt x="3794" y="13403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. Сколько квадратных метров листовой жести пойдет на изготовление трубы длиной 4 м и диаметром 20 см, если на швы необходимо добавить 2,5% площади ее боковой поверхно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задач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Прямоугольник 2"/>
          <p:cNvSpPr/>
          <p:nvPr/>
        </p:nvSpPr>
        <p:spPr>
          <a:xfrm>
            <a:off x="627840" y="990720"/>
            <a:ext cx="814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Тяжело в учени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на ЕГЭ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Объект 4" descr=""/>
          <p:cNvPicPr/>
          <p:nvPr/>
        </p:nvPicPr>
        <p:blipFill>
          <a:blip r:embed="rId1"/>
          <a:stretch/>
        </p:blipFill>
        <p:spPr>
          <a:xfrm>
            <a:off x="990720" y="2316240"/>
            <a:ext cx="2895480" cy="393228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3" descr=""/>
          <p:cNvPicPr/>
          <p:nvPr/>
        </p:nvPicPr>
        <p:blipFill>
          <a:blip r:embed="rId2"/>
          <a:stretch/>
        </p:blipFill>
        <p:spPr>
          <a:xfrm>
            <a:off x="246240" y="533520"/>
            <a:ext cx="8788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2" name="Объект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97880" cy="1066680"/>
          </a:xfrm>
          <a:prstGeom prst="rect">
            <a:avLst/>
          </a:prstGeom>
          <a:ln w="0">
            <a:noFill/>
          </a:ln>
        </p:spPr>
      </p:pic>
      <p:pic>
        <p:nvPicPr>
          <p:cNvPr id="1173" name="Рисунок 4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52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5" name="Объект 4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3506760" cy="3124080"/>
          </a:xfrm>
          <a:prstGeom prst="rect">
            <a:avLst/>
          </a:prstGeom>
          <a:ln w="0">
            <a:noFill/>
          </a:ln>
        </p:spPr>
      </p:pic>
      <p:pic>
        <p:nvPicPr>
          <p:cNvPr id="1176" name="Рисунок 3" descr=""/>
          <p:cNvPicPr/>
          <p:nvPr/>
        </p:nvPicPr>
        <p:blipFill>
          <a:blip r:embed="rId2"/>
          <a:stretch/>
        </p:blipFill>
        <p:spPr>
          <a:xfrm>
            <a:off x="487440" y="689040"/>
            <a:ext cx="8415360" cy="10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ЗАДАНИЕ ЕГЭ ПРОФИЛЬНОЙ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Объект 3" descr=""/>
          <p:cNvPicPr/>
          <p:nvPr/>
        </p:nvPicPr>
        <p:blipFill>
          <a:blip r:embed="rId1"/>
          <a:stretch/>
        </p:blipFill>
        <p:spPr>
          <a:xfrm>
            <a:off x="328680" y="1828800"/>
            <a:ext cx="8726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457200" y="2286000"/>
          <a:ext cx="8381880" cy="36050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группа б) Найдите площадь боковой поверхности, если АВ =16, ВВ1 = 5, В1С1=12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 б) Найдите расстояние от точки В до прямой АС1, если АВ = 12, ВВ1=4, В1С1=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уппа б) Найдите угол между прямой АС1 и ВВ1, если АВ =8, В1С1 =15, ВВ1=6.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83" name="Рисунок 3" descr=""/>
          <p:cNvPicPr/>
          <p:nvPr/>
        </p:nvPicPr>
        <p:blipFill>
          <a:blip r:embed="rId1"/>
          <a:stretch/>
        </p:blipFill>
        <p:spPr>
          <a:xfrm>
            <a:off x="141120" y="533520"/>
            <a:ext cx="8861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евое сечение прямоугольник, диагональ найдем из прямоугольного треугольника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a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означает, что сторона(высота) равна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98108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типичных ошибок, допущенных в домашней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Рисунок 2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3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евое сечение – прямоугольник. Его стороны равны 5 и 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*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*9*9/П =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баллов – оценк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балла – оценка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балла  - оценка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-2 балла  - оценк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Объект 16" descr=""/>
          <p:cNvPicPr/>
          <p:nvPr/>
        </p:nvPicPr>
        <p:blipFill>
          <a:blip r:embed="rId1"/>
          <a:stretch/>
        </p:blipFill>
        <p:spPr>
          <a:xfrm>
            <a:off x="-49320" y="281160"/>
            <a:ext cx="9164880" cy="63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51920" y="1600200"/>
            <a:ext cx="91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годня на уроке 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ете ли вы объяснить решение данных задач однокласснику, пропустившему урок сегодн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е у вас настроение в конце уро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Прямоугольник 1"/>
          <p:cNvSpPr/>
          <p:nvPr/>
        </p:nvSpPr>
        <p:spPr>
          <a:xfrm>
            <a:off x="1708200" y="304920"/>
            <a:ext cx="46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1" name="Рисунок 3" descr=""/>
          <p:cNvPicPr/>
          <p:nvPr/>
        </p:nvPicPr>
        <p:blipFill>
          <a:blip r:embed="rId1"/>
          <a:srcRect l="0" t="-1187" r="17213" b="0"/>
          <a:stretch/>
        </p:blipFill>
        <p:spPr>
          <a:xfrm>
            <a:off x="193680" y="1676520"/>
            <a:ext cx="7273800" cy="1981080"/>
          </a:xfrm>
          <a:prstGeom prst="rect">
            <a:avLst/>
          </a:prstGeom>
          <a:ln w="0">
            <a:noFill/>
          </a:ln>
        </p:spPr>
      </p:pic>
      <p:pic>
        <p:nvPicPr>
          <p:cNvPr id="732" name="Рисунок 4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по математик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4" name="Рисунок 2" descr=""/>
          <p:cNvPicPr/>
          <p:nvPr/>
        </p:nvPicPr>
        <p:blipFill>
          <a:blip r:embed="rId1"/>
          <a:stretch/>
        </p:blipFill>
        <p:spPr>
          <a:xfrm>
            <a:off x="473040" y="1981080"/>
            <a:ext cx="8075520" cy="113832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5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35053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42800" y="103320"/>
            <a:ext cx="82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129"/>
          <p:cNvGrpSpPr/>
          <p:nvPr/>
        </p:nvGrpSpPr>
        <p:grpSpPr>
          <a:xfrm>
            <a:off x="711360" y="2328840"/>
            <a:ext cx="7632000" cy="4529160"/>
            <a:chOff x="711360" y="2328840"/>
            <a:chExt cx="7632000" cy="4529160"/>
          </a:xfrm>
        </p:grpSpPr>
        <p:sp>
          <p:nvSpPr>
            <p:cNvPr id="738" name="Rectangle 104"/>
            <p:cNvSpPr/>
            <p:nvPr/>
          </p:nvSpPr>
          <p:spPr>
            <a:xfrm>
              <a:off x="711360" y="232884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9" name="Group 127"/>
            <p:cNvGrpSpPr/>
            <p:nvPr/>
          </p:nvGrpSpPr>
          <p:grpSpPr>
            <a:xfrm>
              <a:off x="730440" y="2328840"/>
              <a:ext cx="7612920" cy="4529160"/>
              <a:chOff x="730440" y="2328840"/>
              <a:chExt cx="7612920" cy="4529160"/>
            </a:xfrm>
          </p:grpSpPr>
          <p:grpSp>
            <p:nvGrpSpPr>
              <p:cNvPr id="740" name="Group 118"/>
              <p:cNvGrpSpPr/>
              <p:nvPr/>
            </p:nvGrpSpPr>
            <p:grpSpPr>
              <a:xfrm>
                <a:off x="730440" y="2328840"/>
                <a:ext cx="7612920" cy="4529160"/>
                <a:chOff x="730440" y="2328840"/>
                <a:chExt cx="7612920" cy="4529160"/>
              </a:xfrm>
            </p:grpSpPr>
            <p:sp>
              <p:nvSpPr>
                <p:cNvPr id="741" name="Line 13"/>
                <p:cNvSpPr/>
                <p:nvPr/>
              </p:nvSpPr>
              <p:spPr>
                <a:xfrm>
                  <a:off x="261180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2" name="Line 14"/>
                <p:cNvSpPr/>
                <p:nvPr/>
              </p:nvSpPr>
              <p:spPr>
                <a:xfrm>
                  <a:off x="637704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3" name="Line 8"/>
                <p:cNvSpPr/>
                <p:nvPr/>
              </p:nvSpPr>
              <p:spPr>
                <a:xfrm>
                  <a:off x="730440" y="232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4" name="Line 9"/>
                <p:cNvSpPr/>
                <p:nvPr/>
              </p:nvSpPr>
              <p:spPr>
                <a:xfrm>
                  <a:off x="730440" y="534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5" name="Line 10"/>
                <p:cNvSpPr/>
                <p:nvPr/>
              </p:nvSpPr>
              <p:spPr>
                <a:xfrm>
                  <a:off x="730440" y="68565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6" name="Line 12"/>
                <p:cNvSpPr/>
                <p:nvPr/>
              </p:nvSpPr>
              <p:spPr>
                <a:xfrm>
                  <a:off x="73044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7" name="Line 22"/>
                <p:cNvSpPr/>
                <p:nvPr/>
              </p:nvSpPr>
              <p:spPr>
                <a:xfrm>
                  <a:off x="825876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8" name="Line 101"/>
                <p:cNvSpPr/>
                <p:nvPr/>
              </p:nvSpPr>
              <p:spPr>
                <a:xfrm>
                  <a:off x="815040" y="38386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9" name="Line 114"/>
              <p:cNvSpPr/>
              <p:nvPr/>
            </p:nvSpPr>
            <p:spPr>
              <a:xfrm>
                <a:off x="4494240" y="233028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0" name="AutoShape 7"/>
          <p:cNvSpPr/>
          <p:nvPr/>
        </p:nvSpPr>
        <p:spPr>
          <a:xfrm>
            <a:off x="692280" y="847800"/>
            <a:ext cx="776268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 можно получить, если вращать … вокруг одной из его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32"/>
          <p:cNvSpPr/>
          <p:nvPr/>
        </p:nvSpPr>
        <p:spPr>
          <a:xfrm>
            <a:off x="706320" y="28440"/>
            <a:ext cx="777240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20">
            <a:hlinkClick r:id="" action="ppaction://hlinkshowjump?jump=nextslide"/>
          </p:cNvPr>
          <p:cNvSpPr/>
          <p:nvPr/>
        </p:nvSpPr>
        <p:spPr>
          <a:xfrm>
            <a:off x="4649760" y="4017960"/>
            <a:ext cx="165888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AutoShape 130">
            <a:hlinkClick r:id="" action="ppaction://hlinkshowjump?jump=lastslide"/>
          </p:cNvPr>
          <p:cNvSpPr/>
          <p:nvPr/>
        </p:nvSpPr>
        <p:spPr>
          <a:xfrm>
            <a:off x="836640" y="2577960"/>
            <a:ext cx="1671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131">
            <a:hlinkClick r:id="" action="ppaction://hlinkshowjump?jump=lastslide"/>
          </p:cNvPr>
          <p:cNvSpPr/>
          <p:nvPr/>
        </p:nvSpPr>
        <p:spPr>
          <a:xfrm>
            <a:off x="46245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132">
            <a:hlinkClick r:id="" action="ppaction://hlinkshowjump?jump=lastslide"/>
          </p:cNvPr>
          <p:cNvSpPr/>
          <p:nvPr/>
        </p:nvSpPr>
        <p:spPr>
          <a:xfrm>
            <a:off x="64659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133">
            <a:hlinkClick r:id="" action="ppaction://hlinkshowjump?jump=lastslide"/>
          </p:cNvPr>
          <p:cNvSpPr/>
          <p:nvPr/>
        </p:nvSpPr>
        <p:spPr>
          <a:xfrm>
            <a:off x="2755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AutoShape 134">
            <a:hlinkClick r:id="" action="ppaction://hlinkshowjump?jump=lastslide"/>
          </p:cNvPr>
          <p:cNvSpPr/>
          <p:nvPr/>
        </p:nvSpPr>
        <p:spPr>
          <a:xfrm>
            <a:off x="849240" y="4070520"/>
            <a:ext cx="1631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AutoShape 135">
            <a:hlinkClick r:id="" action="ppaction://hlinkshowjump?jump=lastslide"/>
          </p:cNvPr>
          <p:cNvSpPr/>
          <p:nvPr/>
        </p:nvSpPr>
        <p:spPr>
          <a:xfrm>
            <a:off x="6505560" y="4070520"/>
            <a:ext cx="15937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136">
            <a:hlinkClick r:id="" action="ppaction://hlinkshowjump?jump=lastslide"/>
          </p:cNvPr>
          <p:cNvSpPr/>
          <p:nvPr/>
        </p:nvSpPr>
        <p:spPr>
          <a:xfrm>
            <a:off x="2768760" y="407052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137">
            <a:hlinkClick r:id="" action="ppaction://hlinkshowjump?jump=lastslide"/>
          </p:cNvPr>
          <p:cNvSpPr/>
          <p:nvPr/>
        </p:nvSpPr>
        <p:spPr>
          <a:xfrm>
            <a:off x="720720" y="5564160"/>
            <a:ext cx="1812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38">
            <a:hlinkClick r:id="" action="ppaction://hlinkshowjump?jump=lastslide"/>
          </p:cNvPr>
          <p:cNvSpPr/>
          <p:nvPr/>
        </p:nvSpPr>
        <p:spPr>
          <a:xfrm>
            <a:off x="4584600" y="5564160"/>
            <a:ext cx="1711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39">
            <a:hlinkClick r:id="" action="ppaction://hlinkshowjump?jump=lastslide"/>
          </p:cNvPr>
          <p:cNvSpPr/>
          <p:nvPr/>
        </p:nvSpPr>
        <p:spPr>
          <a:xfrm>
            <a:off x="6492960" y="5564160"/>
            <a:ext cx="1644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140">
            <a:hlinkClick r:id="" action="ppaction://hlinkshowjump?jump=lastslide"/>
          </p:cNvPr>
          <p:cNvSpPr/>
          <p:nvPr/>
        </p:nvSpPr>
        <p:spPr>
          <a:xfrm>
            <a:off x="2703600" y="5564160"/>
            <a:ext cx="1738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961920" y="1989000"/>
            <a:ext cx="7632000" cy="4529160"/>
            <a:chOff x="961920" y="1989000"/>
            <a:chExt cx="7632000" cy="4529160"/>
          </a:xfrm>
        </p:grpSpPr>
        <p:sp>
          <p:nvSpPr>
            <p:cNvPr id="765" name="Rectangle 3"/>
            <p:cNvSpPr/>
            <p:nvPr/>
          </p:nvSpPr>
          <p:spPr>
            <a:xfrm>
              <a:off x="961920" y="198900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981000" y="1989000"/>
              <a:ext cx="7612920" cy="4529160"/>
              <a:chOff x="981000" y="1989000"/>
              <a:chExt cx="7612920" cy="452916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981000" y="1989000"/>
                <a:ext cx="7612920" cy="4529160"/>
                <a:chOff x="981000" y="1989000"/>
                <a:chExt cx="7612920" cy="452916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86236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9" name="Line 7"/>
                <p:cNvSpPr/>
                <p:nvPr/>
              </p:nvSpPr>
              <p:spPr>
                <a:xfrm>
                  <a:off x="662760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0" name="Line 8"/>
                <p:cNvSpPr/>
                <p:nvPr/>
              </p:nvSpPr>
              <p:spPr>
                <a:xfrm>
                  <a:off x="981000" y="19890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1" name="Line 9"/>
                <p:cNvSpPr/>
                <p:nvPr/>
              </p:nvSpPr>
              <p:spPr>
                <a:xfrm>
                  <a:off x="981000" y="50068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2" name="Line 10"/>
                <p:cNvSpPr/>
                <p:nvPr/>
              </p:nvSpPr>
              <p:spPr>
                <a:xfrm>
                  <a:off x="981000" y="651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3" name="Line 11"/>
                <p:cNvSpPr/>
                <p:nvPr/>
              </p:nvSpPr>
              <p:spPr>
                <a:xfrm>
                  <a:off x="98100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4" name="Line 12"/>
                <p:cNvSpPr/>
                <p:nvPr/>
              </p:nvSpPr>
              <p:spPr>
                <a:xfrm>
                  <a:off x="850932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5" name="Line 13"/>
                <p:cNvSpPr/>
                <p:nvPr/>
              </p:nvSpPr>
              <p:spPr>
                <a:xfrm>
                  <a:off x="1065600" y="349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76" name="Line 14"/>
              <p:cNvSpPr/>
              <p:nvPr/>
            </p:nvSpPr>
            <p:spPr>
              <a:xfrm>
                <a:off x="4744800" y="199044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7" name="AutoShape 15"/>
          <p:cNvSpPr/>
          <p:nvPr/>
        </p:nvSpPr>
        <p:spPr>
          <a:xfrm>
            <a:off x="900000" y="723960"/>
            <a:ext cx="768204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ая, проходящая через центры осно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928800" y="28440"/>
            <a:ext cx="7578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1">
            <a:hlinkClick r:id="" action="ppaction://hlinkshowjump?jump=nextslide"/>
          </p:cNvPr>
          <p:cNvSpPr/>
          <p:nvPr/>
        </p:nvSpPr>
        <p:spPr>
          <a:xfrm>
            <a:off x="1066680" y="4070520"/>
            <a:ext cx="16210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41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AutoShape 42">
            <a:hlinkClick r:id="" action="ppaction://hlinkshowjump?jump=lastslide"/>
          </p:cNvPr>
          <p:cNvSpPr/>
          <p:nvPr/>
        </p:nvSpPr>
        <p:spPr>
          <a:xfrm>
            <a:off x="1136520" y="2577960"/>
            <a:ext cx="1528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AutoShape 43">
            <a:hlinkClick r:id="" action="ppaction://hlinkshowjump?jump=lastslide"/>
          </p:cNvPr>
          <p:cNvSpPr/>
          <p:nvPr/>
        </p:nvSpPr>
        <p:spPr>
          <a:xfrm>
            <a:off x="4846680" y="2577960"/>
            <a:ext cx="1698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AutoShape 44">
            <a:hlinkClick r:id="" action="ppaction://hlinkshowjump?jump=lastslide"/>
          </p:cNvPr>
          <p:cNvSpPr/>
          <p:nvPr/>
        </p:nvSpPr>
        <p:spPr>
          <a:xfrm>
            <a:off x="6732720" y="2577960"/>
            <a:ext cx="1663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AutoShape 45">
            <a:hlinkClick r:id="" action="ppaction://hlinkshowjump?jump=lastslide"/>
          </p:cNvPr>
          <p:cNvSpPr/>
          <p:nvPr/>
        </p:nvSpPr>
        <p:spPr>
          <a:xfrm>
            <a:off x="2965320" y="2577960"/>
            <a:ext cx="16621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utoShape 46">
            <a:hlinkClick r:id="" action="ppaction://hlinkshowjump?jump=lastslide"/>
          </p:cNvPr>
          <p:cNvSpPr/>
          <p:nvPr/>
        </p:nvSpPr>
        <p:spPr>
          <a:xfrm>
            <a:off x="6740640" y="4017960"/>
            <a:ext cx="1684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utoShape 47">
            <a:hlinkClick r:id="" action="ppaction://hlinkshowjump?jump=lastslide"/>
          </p:cNvPr>
          <p:cNvSpPr/>
          <p:nvPr/>
        </p:nvSpPr>
        <p:spPr>
          <a:xfrm>
            <a:off x="3006720" y="4070520"/>
            <a:ext cx="1647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AutoShape 48">
            <a:hlinkClick r:id="" action="ppaction://hlinkshowjump?jump=lastslide"/>
          </p:cNvPr>
          <p:cNvSpPr/>
          <p:nvPr/>
        </p:nvSpPr>
        <p:spPr>
          <a:xfrm>
            <a:off x="1039680" y="5564160"/>
            <a:ext cx="1785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49">
            <a:hlinkClick r:id="" action="ppaction://hlinkshowjump?jump=lastslide"/>
          </p:cNvPr>
          <p:cNvSpPr/>
          <p:nvPr/>
        </p:nvSpPr>
        <p:spPr>
          <a:xfrm>
            <a:off x="4819680" y="5564160"/>
            <a:ext cx="1738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AutoShape 50">
            <a:hlinkClick r:id="" action="ppaction://hlinkshowjump?jump=lastslide"/>
          </p:cNvPr>
          <p:cNvSpPr/>
          <p:nvPr/>
        </p:nvSpPr>
        <p:spPr>
          <a:xfrm>
            <a:off x="6705720" y="55641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AutoShape 51">
            <a:hlinkClick r:id="" action="ppaction://hlinkshowjump?jump=lastslide"/>
          </p:cNvPr>
          <p:cNvSpPr/>
          <p:nvPr/>
        </p:nvSpPr>
        <p:spPr>
          <a:xfrm>
            <a:off x="2952720" y="5564160"/>
            <a:ext cx="1736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Рисунок 1" descr=""/>
          <p:cNvPicPr/>
          <p:nvPr/>
        </p:nvPicPr>
        <p:blipFill>
          <a:blip r:embed="rId1"/>
          <a:stretch/>
        </p:blipFill>
        <p:spPr>
          <a:xfrm>
            <a:off x="4764240" y="3559320"/>
            <a:ext cx="1904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79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79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79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0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05" name="AutoShape 15"/>
          <p:cNvSpPr/>
          <p:nvPr/>
        </p:nvSpPr>
        <p:spPr>
          <a:xfrm>
            <a:off x="831960" y="958680"/>
            <a:ext cx="7502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нова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844560" y="28440"/>
            <a:ext cx="75373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AutoShape 20">
            <a:hlinkClick r:id="" action="ppaction://hlinkshowjump?jump=nextslide"/>
          </p:cNvPr>
          <p:cNvSpPr/>
          <p:nvPr/>
        </p:nvSpPr>
        <p:spPr>
          <a:xfrm>
            <a:off x="2757600" y="2577960"/>
            <a:ext cx="1744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98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32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33">
            <a:hlinkClick r:id="" action="ppaction://hlinkshowjump?jump=lastslide"/>
          </p:cNvPr>
          <p:cNvSpPr/>
          <p:nvPr/>
        </p:nvSpPr>
        <p:spPr>
          <a:xfrm>
            <a:off x="65800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5">
            <a:hlinkClick r:id="" action="ppaction://hlinkshowjump?jump=lastslide"/>
          </p:cNvPr>
          <p:cNvSpPr/>
          <p:nvPr/>
        </p:nvSpPr>
        <p:spPr>
          <a:xfrm>
            <a:off x="6545160" y="4070520"/>
            <a:ext cx="1762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6">
            <a:hlinkClick r:id="" action="ppaction://hlinkshowjump?jump=lastslide"/>
          </p:cNvPr>
          <p:cNvSpPr/>
          <p:nvPr/>
        </p:nvSpPr>
        <p:spPr>
          <a:xfrm>
            <a:off x="2798640" y="4070520"/>
            <a:ext cx="1703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7">
            <a:hlinkClick r:id="" action="ppaction://hlinkshowjump?jump=lastslide"/>
          </p:cNvPr>
          <p:cNvSpPr/>
          <p:nvPr/>
        </p:nvSpPr>
        <p:spPr>
          <a:xfrm>
            <a:off x="831960" y="5564160"/>
            <a:ext cx="1814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8">
            <a:hlinkClick r:id="" action="ppaction://hlinkshowjump?jump=lastslide"/>
          </p:cNvPr>
          <p:cNvSpPr/>
          <p:nvPr/>
        </p:nvSpPr>
        <p:spPr>
          <a:xfrm>
            <a:off x="4689360" y="5564160"/>
            <a:ext cx="16988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39">
            <a:hlinkClick r:id="" action="ppaction://hlinkshowjump?jump=lastslide"/>
          </p:cNvPr>
          <p:cNvSpPr/>
          <p:nvPr/>
        </p:nvSpPr>
        <p:spPr>
          <a:xfrm>
            <a:off x="6567480" y="5564160"/>
            <a:ext cx="1717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68760" y="3641760"/>
            <a:ext cx="1914480" cy="155412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30" descr=""/>
          <p:cNvPicPr/>
          <p:nvPr/>
        </p:nvPicPr>
        <p:blipFill>
          <a:blip r:embed="rId2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21" name="Рисунок 1" descr=""/>
          <p:cNvPicPr/>
          <p:nvPr/>
        </p:nvPicPr>
        <p:blipFill>
          <a:blip r:embed="rId3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09:00Z</dcterms:created>
  <dc:creator>Администратор</dc:creator>
  <dc:description/>
  <dc:language>en-US</dc:language>
  <cp:lastModifiedBy>Александр</cp:lastModifiedBy>
  <dcterms:modified xsi:type="dcterms:W3CDTF">2022-03-23T16:36:18Z</dcterms:modified>
  <cp:revision>91</cp:revision>
  <dc:subject/>
  <dc:title>Слайд 1</dc:title>
</cp:coreProperties>
</file>